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AF4-B4D4-463A-A542-A3CC2091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3D0-D973-4B25-B9DF-BE0DE646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D7F-A44E-49F1-B264-B85716CE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18A-3E49-4D96-B71B-7ECF741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4E1-BEBE-4449-B5B8-0870DB41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B1D-71CF-475C-9100-8828839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816-5948-4C5B-BC62-F7773D2C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1A8-E4B9-41B6-B337-06A30B3D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62D-D852-4FCA-8520-8F81766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0FE-1254-4558-9539-07A8C7A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F36-F986-4996-B06E-409D746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F24-BFCB-4B21-86AB-67DE16B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089-267F-4B88-BDB0-8BB75376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Arbust" TargetMode="External"/><Relationship Id="rId2" Type="http://schemas.openxmlformats.org/officeDocument/2006/relationships/hyperlink" Target="http://ro.wikipedia.org/wiki/Rosacea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Zmeur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este un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bus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tufos, peren, cu lăstari târâtori, cu tulpini drepte, arcuite spre vârf, cu ghimpi drepți, de forma unor ace, adeseori plasați numai pe partea inferioară. Zmeurul aparține familiei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sacea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705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15:59Z</dcterms:created>
  <dc:creator>Elev</dc:creator>
  <dc:description/>
  <dc:language>en-US</dc:language>
  <cp:lastModifiedBy>Elev</cp:lastModifiedBy>
  <dcterms:modified xsi:type="dcterms:W3CDTF">2012-06-18T10:18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